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83-FE0A-4EB8-A2BD-4042BB08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D4B-1552-4B07-B3AA-A967454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3D3-FE94-4E2F-BB52-B9393913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62A-7B2C-454F-8E62-335332D4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A00-4679-41F1-A177-728028D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7EC-6927-4B5F-B0B6-E1C8AFA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FEA-E0F0-4361-8A9E-B4269942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4CC-B5C5-47FD-98C4-3A384B09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8B0-E94A-4DCE-BB92-12B25891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083-3682-4787-B9B0-996AEE1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1D5-DF31-4F88-8D0D-3A03B0E3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ADD-9CD3-488D-998E-C4B3601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6F73-41EE-433B-A005-BDB6D1C6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90720"/>
            <a:ext cx="8305560" cy="302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a3517"/>
                </a:solidFill>
                <a:latin typeface="Lucida Handwriting"/>
              </a:rPr>
              <a:t>Valentine’s D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37335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427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1219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or jewel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42780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They find ways to say, “I love yo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5365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8175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976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94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304812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a3517"/>
                </a:solidFill>
                <a:latin typeface="Arial"/>
              </a:rPr>
              <a:t>Happy Valentine’s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63244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eslhome.ne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343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3517"/>
                </a:solidFill>
                <a:latin typeface="Arial"/>
              </a:rPr>
              <a:t>Valentine’s Day is February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4203720" cy="518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81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Children have parties at school and give each other valentine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410440" cy="404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People eat heart-shaped foo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867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like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248520" cy="46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5638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or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5257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aa3517"/>
                </a:solidFill>
                <a:latin typeface="Arial"/>
              </a:rPr>
              <a:t>even waff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248160" cy="434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3341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Adults ask their sweethearts to be their vale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1092240"/>
            <a:ext cx="69026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62160" cy="584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0" y="36576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3517"/>
                </a:solidFill>
                <a:latin typeface="Arial"/>
              </a:rPr>
              <a:t>Sometimes people give valentine gifts like flowers, candy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5:49:44Z</dcterms:created>
  <dc:creator>Carol Martin</dc:creator>
  <dc:description/>
  <dc:language>en-US</dc:language>
  <cp:lastModifiedBy> </cp:lastModifiedBy>
  <dcterms:modified xsi:type="dcterms:W3CDTF">2009-02-19T10:03:01Z</dcterms:modified>
  <cp:revision>5</cp:revision>
  <dc:subject/>
  <dc:title>PowerPoint Presentation</dc:title>
</cp:coreProperties>
</file>